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549-15FE-470E-9D45-5D8E38BD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623-51E9-4702-B334-ACE73C20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DC0-7886-4FDA-A801-30086053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2C4-3771-41B2-826B-3732E9AC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37B-7D77-4082-BD3D-660BCD17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EE-E8BB-42B0-AAB2-892E989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36E-FE25-442A-A817-A9278D45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0EFF-6739-41AD-8771-5DAA0979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ECB2-7DA8-4D4A-AD39-5470BD7B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D813-BA40-4EF6-8BA0-FCEDC0D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B71-6BB2-47FF-9FBA-C36B56C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502-7B8A-4048-A054-04B3306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A7D5-228E-4BC4-9427-5B08B89C433F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98989"/>
                </a:solidFill>
                <a:latin typeface="Calibri"/>
              </a:rPr>
              <a:t>5th g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24508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ON = 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8800" y="47145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re is a book </a:t>
            </a:r>
            <a:r>
              <a:rPr b="0" lang="es-CL" sz="4400" spc="-1" strike="noStrike" u="sng">
                <a:solidFill>
                  <a:srgbClr val="ff0000"/>
                </a:solidFill>
                <a:uFillTx/>
                <a:latin typeface="Calibri"/>
              </a:rPr>
              <a:t>on</a:t>
            </a: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 des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memrise.com/s3_proxy/?f=uploads/mems/5153465000131213110500.jpeg"/>
          <p:cNvPicPr/>
          <p:nvPr/>
        </p:nvPicPr>
        <p:blipFill>
          <a:blip r:embed="rId1"/>
          <a:stretch/>
        </p:blipFill>
        <p:spPr>
          <a:xfrm>
            <a:off x="1857240" y="1714680"/>
            <a:ext cx="5015160" cy="2857320"/>
          </a:xfrm>
          <a:prstGeom prst="rect">
            <a:avLst/>
          </a:prstGeom>
          <a:ln w="0">
            <a:noFill/>
          </a:ln>
        </p:spPr>
      </p:pic>
      <p:sp>
        <p:nvSpPr>
          <p:cNvPr id="47" name="Rectángulo 4"/>
          <p:cNvSpPr/>
          <p:nvPr/>
        </p:nvSpPr>
        <p:spPr>
          <a:xfrm>
            <a:off x="423720" y="550800"/>
            <a:ext cx="1844640" cy="25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Atenció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ta preposición se utiliza cuando un objeto/cosa está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Calibri"/>
              </a:rPr>
              <a:t>encima o sobre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UNDER = DEBAJ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880" y="550080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100" spc="-1" strike="noStrike">
                <a:solidFill>
                  <a:srgbClr val="000000"/>
                </a:solidFill>
                <a:latin typeface="Calibri"/>
              </a:rPr>
              <a:t>There is a ball </a:t>
            </a:r>
            <a:r>
              <a:rPr b="0" lang="es-CL" sz="4100" spc="-1" strike="noStrike">
                <a:solidFill>
                  <a:srgbClr val="ff0000"/>
                </a:solidFill>
                <a:latin typeface="Calibri"/>
              </a:rPr>
              <a:t>under </a:t>
            </a:r>
            <a:r>
              <a:rPr b="0" lang="es-CL" sz="4100" spc="-1" strike="noStrike">
                <a:solidFill>
                  <a:srgbClr val="000000"/>
                </a:solidFill>
                <a:latin typeface="Calibri"/>
              </a:rPr>
              <a:t>the desk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100" spc="-1" strike="noStrike">
                <a:solidFill>
                  <a:srgbClr val="000000"/>
                </a:solidFill>
                <a:latin typeface="Calibri"/>
              </a:rPr>
              <a:t>The ball is </a:t>
            </a:r>
            <a:r>
              <a:rPr b="0" lang="es-CL" sz="4100" spc="-1" strike="noStrike">
                <a:solidFill>
                  <a:srgbClr val="ff0000"/>
                </a:solidFill>
                <a:latin typeface="Calibri"/>
              </a:rPr>
              <a:t>under </a:t>
            </a:r>
            <a:r>
              <a:rPr b="0" lang="es-CL" sz="4100" spc="-1" strike="noStrike">
                <a:solidFill>
                  <a:srgbClr val="000000"/>
                </a:solidFill>
                <a:latin typeface="Calibri"/>
              </a:rPr>
              <a:t>the desk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s-media-cache-ak0.pinimg.com/236x/19/86/dd/1986ddee1f76ef42a9c79d5e00f6bbf3.jpg"/>
          <p:cNvPicPr/>
          <p:nvPr/>
        </p:nvPicPr>
        <p:blipFill>
          <a:blip r:embed="rId1"/>
          <a:stretch/>
        </p:blipFill>
        <p:spPr>
          <a:xfrm>
            <a:off x="2357280" y="1285920"/>
            <a:ext cx="4357800" cy="36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IN = 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85520" y="4785840"/>
            <a:ext cx="7746840" cy="166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here are 5 pencils </a:t>
            </a:r>
            <a:r>
              <a:rPr b="0" lang="es-CL" sz="36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0" lang="es-C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he pencil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here is a ruler </a:t>
            </a:r>
            <a:r>
              <a:rPr b="0" lang="es-CL" sz="36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0" lang="es-CL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he pencil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There is a pen </a:t>
            </a:r>
            <a:r>
              <a:rPr b="0" lang="es-CL" sz="3600" spc="-1" strike="noStrike">
                <a:solidFill>
                  <a:srgbClr val="ff0000"/>
                </a:solidFill>
                <a:latin typeface="Calibri"/>
              </a:rPr>
              <a:t>in</a:t>
            </a: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 the pencil c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USUARIO\Desktop\pencil_case.png"/>
          <p:cNvPicPr/>
          <p:nvPr/>
        </p:nvPicPr>
        <p:blipFill>
          <a:blip r:embed="rId1"/>
          <a:stretch/>
        </p:blipFill>
        <p:spPr>
          <a:xfrm>
            <a:off x="2571840" y="1285920"/>
            <a:ext cx="3786120" cy="3544920"/>
          </a:xfrm>
          <a:prstGeom prst="rect">
            <a:avLst/>
          </a:prstGeom>
          <a:ln w="0">
            <a:noFill/>
          </a:ln>
        </p:spPr>
      </p:pic>
      <p:sp>
        <p:nvSpPr>
          <p:cNvPr id="56" name="Rectángulo 2"/>
          <p:cNvSpPr/>
          <p:nvPr/>
        </p:nvSpPr>
        <p:spPr>
          <a:xfrm>
            <a:off x="423720" y="550800"/>
            <a:ext cx="1844640" cy="25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Atención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sta preposición se utiliza cuando un objeto/cosa está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Calibri"/>
              </a:rPr>
              <a:t>dentro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de al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IN FRONT OF = EN FRENTE 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7160" y="521496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re is a cat </a:t>
            </a: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in front of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 chai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previews.123rf.com/images/innocent/innocent1012/innocent101200101/8376672-Cat-is-lying-in-front-of-a-chair-Stock-Photo.jpg"/>
          <p:cNvPicPr/>
          <p:nvPr/>
        </p:nvPicPr>
        <p:blipFill>
          <a:blip r:embed="rId1"/>
          <a:stretch/>
        </p:blipFill>
        <p:spPr>
          <a:xfrm>
            <a:off x="1285920" y="1285920"/>
            <a:ext cx="5791320" cy="385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NEXT TO = CERCA 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85880" y="4929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re is a ball </a:t>
            </a: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next to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 box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itstepeaca.edu.mx/e-learning/stardust/Prepositions%20of%20place%201_clip_image011.jpg"/>
          <p:cNvPicPr/>
          <p:nvPr/>
        </p:nvPicPr>
        <p:blipFill>
          <a:blip r:embed="rId1"/>
          <a:stretch/>
        </p:blipFill>
        <p:spPr>
          <a:xfrm>
            <a:off x="2928960" y="1285920"/>
            <a:ext cx="3500280" cy="360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BEHIND = DETRÁ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7160" y="4928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re is a lamp </a:t>
            </a: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behind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 chai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C:\Users\USUARIO\Desktop\descarga.jpg"/>
          <p:cNvPicPr/>
          <p:nvPr/>
        </p:nvPicPr>
        <p:blipFill>
          <a:blip r:embed="rId1"/>
          <a:stretch/>
        </p:blipFill>
        <p:spPr>
          <a:xfrm>
            <a:off x="3643200" y="1428840"/>
            <a:ext cx="157176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2960" y="7142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Calibri"/>
              </a:rPr>
              <a:t>BETWEEN = ENT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7160" y="4928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re is a TV </a:t>
            </a:r>
            <a:r>
              <a:rPr b="0" lang="es-CL" sz="4400" spc="-1" strike="noStrike">
                <a:solidFill>
                  <a:srgbClr val="ff0000"/>
                </a:solidFill>
                <a:latin typeface="Calibri"/>
              </a:rPr>
              <a:t>between </a:t>
            </a: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the cat and the do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2.bp.blogspot.com/_D-DXvmSEbLA/TO_zDVLmbDI/AAAAAAAAAMQ/Bj81m7RGc2E/s1600/preposition+between.jpg"/>
          <p:cNvPicPr/>
          <p:nvPr/>
        </p:nvPicPr>
        <p:blipFill>
          <a:blip r:embed="rId1"/>
          <a:stretch/>
        </p:blipFill>
        <p:spPr>
          <a:xfrm>
            <a:off x="2000160" y="1357200"/>
            <a:ext cx="5286600" cy="3357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1424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0000"/>
                </a:solidFill>
                <a:latin typeface="Calibri"/>
              </a:rPr>
              <a:t>Describe this classroo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s://explorationdiscoveryandcreation.files.wordpress.com/2015/02/classroom-concept-art.jpg"/>
          <p:cNvPicPr/>
          <p:nvPr/>
        </p:nvPicPr>
        <p:blipFill>
          <a:blip r:embed="rId1"/>
          <a:stretch/>
        </p:blipFill>
        <p:spPr>
          <a:xfrm>
            <a:off x="1071720" y="1785960"/>
            <a:ext cx="7238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6:36:20Z</dcterms:created>
  <dc:creator>USUARIO</dc:creator>
  <dc:description/>
  <dc:language>en-US</dc:language>
  <cp:lastModifiedBy>constanza soto cabrera</cp:lastModifiedBy>
  <dcterms:modified xsi:type="dcterms:W3CDTF">2020-03-20T18:19:05Z</dcterms:modified>
  <cp:revision>21</cp:revision>
  <dc:subject/>
  <dc:title>Classroom objects</dc:title>
</cp:coreProperties>
</file>