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77B-0C9D-424C-8123-3EF61A96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147-67CC-4D84-BE70-F0E746D0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9F2-7867-462C-B135-CF50F43B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20BE-841C-45DB-8D23-05CB97C4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AAC-7D21-4816-8651-34C9317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47A-A048-4075-90B6-EA4741B1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176-8D9E-4C76-85BA-7B187CA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E9EF-64A0-4181-A27F-C46CB1D2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5145-5886-4CE2-BEEF-6D2C6AD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99A6-A94C-45D7-8540-9946CFC3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72F-F030-4C93-B310-801E88FF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651F-E4EF-4250-AFBC-A641A0B0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B7C9-738B-4BB8-8919-119F502101B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b0lPaDmUoM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" descr="01-ppt.jpg"/>
          <p:cNvPicPr/>
          <p:nvPr/>
        </p:nvPicPr>
        <p:blipFill>
          <a:blip r:embed="rId1"/>
          <a:stretch/>
        </p:blipFill>
        <p:spPr>
          <a:xfrm>
            <a:off x="-84240" y="-60480"/>
            <a:ext cx="9312480" cy="6978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217760"/>
            <a:ext cx="7950240" cy="27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rajan Pro"/>
                <a:ea typeface="Trajan Pro"/>
              </a:rPr>
              <a:t>COLEGIO SANTA MARTA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Trajan Pro"/>
                <a:ea typeface="Trajan Pro"/>
              </a:rPr>
              <a:t>CURSO: 5º básico</a:t>
            </a:r>
            <a:br>
              <a:rPr sz="2600"/>
            </a:br>
            <a:r>
              <a:rPr b="1" lang="es-ES" sz="2600" spc="-1" strike="noStrike">
                <a:solidFill>
                  <a:srgbClr val="ffffff"/>
                </a:solidFill>
                <a:latin typeface="Trajan Pro"/>
                <a:ea typeface="Trajan Pro"/>
              </a:rPr>
              <a:t>ASIGNATURA: Lenguaje</a:t>
            </a: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Trajan Pro"/>
                <a:ea typeface="Trajan Pro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adroTexto 3"/>
          <p:cNvSpPr/>
          <p:nvPr/>
        </p:nvSpPr>
        <p:spPr>
          <a:xfrm>
            <a:off x="-571680" y="2682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Imagen 4" descr="11-ppt.jpg"/>
          <p:cNvPicPr/>
          <p:nvPr/>
        </p:nvPicPr>
        <p:blipFill>
          <a:blip r:embed="rId1"/>
          <a:stretch/>
        </p:blipFill>
        <p:spPr>
          <a:xfrm>
            <a:off x="-47520" y="-33480"/>
            <a:ext cx="9239040" cy="6924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58960" y="1001520"/>
            <a:ext cx="7448400" cy="49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Libertad"/>
                <a:ea typeface="Libertad"/>
              </a:rPr>
              <a:t>OBJETIVO</a:t>
            </a:r>
            <a:r>
              <a:rPr b="0" lang="es-ES" sz="4000" spc="-1" strike="noStrike">
                <a:solidFill>
                  <a:srgbClr val="000000"/>
                </a:solidFill>
                <a:latin typeface="Libertad"/>
                <a:ea typeface="Libertad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Libertad"/>
                <a:ea typeface="Libertad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Libertad"/>
                <a:ea typeface="Libertad"/>
              </a:rPr>
              <a:t>Leer un amplio repertorio de literatura para aumentar su conocimiento del mun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ibertad"/>
                <a:ea typeface="Libertad"/>
              </a:rPr>
              <a:t>-Aplicar estrategias para determinar el significado de palabras nuev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Libertad"/>
                <a:ea typeface="Libertad"/>
              </a:rPr>
              <a:t>- Escribir frecuentemente, para desarrollar la creatividad y expresar sus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CuadroTexto 3"/>
          <p:cNvSpPr/>
          <p:nvPr/>
        </p:nvSpPr>
        <p:spPr>
          <a:xfrm>
            <a:off x="-571680" y="2682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magen 4" descr="11-ppt.jpg"/>
          <p:cNvPicPr/>
          <p:nvPr/>
        </p:nvPicPr>
        <p:blipFill>
          <a:blip r:embed="rId1"/>
          <a:stretch/>
        </p:blipFill>
        <p:spPr>
          <a:xfrm>
            <a:off x="-47520" y="-33480"/>
            <a:ext cx="9239040" cy="6924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58960" y="1001520"/>
            <a:ext cx="7448400" cy="49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4000" spc="-1" strike="noStrike" u="sng">
                <a:solidFill>
                  <a:srgbClr val="000000"/>
                </a:solidFill>
                <a:uFillTx/>
                <a:latin typeface="Libertad"/>
                <a:ea typeface="Libertad"/>
              </a:rPr>
              <a:t>INDICACIONES</a:t>
            </a:r>
            <a:r>
              <a:rPr b="1" lang="es-ES" sz="4000" spc="-1" strike="noStrike">
                <a:solidFill>
                  <a:srgbClr val="000000"/>
                </a:solidFill>
                <a:latin typeface="Libertad"/>
                <a:ea typeface="Libertad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ibertad"/>
                <a:ea typeface="Libertad"/>
              </a:rPr>
              <a:t>1) Revisar contextualización del au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ibertad"/>
                <a:ea typeface="Libertad"/>
              </a:rPr>
              <a:t>2) Responder evaluación de lectura manera clara y comple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ibertad"/>
                <a:ea typeface="Libertad"/>
              </a:rPr>
              <a:t>3) Enviar documento Word a correo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  <a:ea typeface="Libertad"/>
              </a:rPr>
              <a:t>(Plazo máx: viernes 27 de marz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velyn Vergara:  evelyn.vergara@secst.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Quinto B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berto Rebolledo :  arebolledo@secst.c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6000" spc="-1" strike="noStrike">
                <a:solidFill>
                  <a:srgbClr val="00b0f0"/>
                </a:solidFill>
                <a:latin typeface="Calibri Light"/>
              </a:rPr>
              <a:t>Memorias de una sirena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200" y="1825200"/>
            <a:ext cx="480708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Hernán Del So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Nació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19 de septiembre de 1901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en Santiago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Chil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sde muy joven se dedicó a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periodismo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y l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literatura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. Colaborador, traductor y finalmente crítico literario en diversas revistas y diari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fesor fundador de la Escuela de Periodismo de la Universidad de Chile. Ha escrito casi cincuenta narraciones infantiles, con diversos seudónim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Marcador de contenido 3" descr=""/>
          <p:cNvPicPr/>
          <p:nvPr/>
        </p:nvPicPr>
        <p:blipFill>
          <a:blip r:embed="rId1"/>
          <a:stretch/>
        </p:blipFill>
        <p:spPr>
          <a:xfrm>
            <a:off x="5778360" y="1901880"/>
            <a:ext cx="2713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CL" sz="5400" spc="-1" strike="noStrike">
                <a:solidFill>
                  <a:srgbClr val="00b0f0"/>
                </a:solidFill>
                <a:latin typeface="Calibri Light"/>
              </a:rPr>
              <a:t>Algunas de sus obras son…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ac, el microbio desconocido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aventuras de Tot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ando el viento desapareció (1946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emorias de una sire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Poro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rey de los atunes (1947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Resultado de imagen para memorias de una sirena"/>
          <p:cNvPicPr/>
          <p:nvPr/>
        </p:nvPicPr>
        <p:blipFill>
          <a:blip r:embed="rId1"/>
          <a:stretch/>
        </p:blipFill>
        <p:spPr>
          <a:xfrm>
            <a:off x="5437080" y="1689120"/>
            <a:ext cx="273708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28200" y="691920"/>
            <a:ext cx="646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Para adultos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escribió los tomos de cuentos Viento verde (1940) y La noche de enfrente (1952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mo poeta, un único libro juvenil: Senderos (1919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1954, recibió el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Premio Camilo Henríquez de la Sociedad de Escritores de Chil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, por sus crónicas literarias, y en 1968 el Premio nacional de Literatu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embro de número de la Academia Chilena de la Lengua (1969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Hernán del Sola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falleció el 22 de enero de 1985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n su ciudad na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Resultado de imagen para caricatura niño leyendo"/>
          <p:cNvPicPr/>
          <p:nvPr/>
        </p:nvPicPr>
        <p:blipFill>
          <a:blip r:embed="rId1"/>
          <a:stretch/>
        </p:blipFill>
        <p:spPr>
          <a:xfrm>
            <a:off x="6875640" y="4437000"/>
            <a:ext cx="2114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Marcador de contenido 3" descr=""/>
          <p:cNvPicPr/>
          <p:nvPr/>
        </p:nvPicPr>
        <p:blipFill>
          <a:blip r:embed="rId1"/>
          <a:stretch/>
        </p:blipFill>
        <p:spPr>
          <a:xfrm>
            <a:off x="5003640" y="549360"/>
            <a:ext cx="3426120" cy="5879880"/>
          </a:xfrm>
          <a:prstGeom prst="rect">
            <a:avLst/>
          </a:prstGeom>
          <a:ln w="0">
            <a:noFill/>
          </a:ln>
        </p:spPr>
      </p:pic>
      <p:pic>
        <p:nvPicPr>
          <p:cNvPr id="59" name="Imagen 4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370368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37920" y="-66348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6000"/>
            </a:br>
            <a:br>
              <a:rPr sz="6000"/>
            </a:br>
            <a:r>
              <a:rPr b="1" lang="es-ES" sz="6000" spc="-1" strike="noStrike">
                <a:solidFill>
                  <a:srgbClr val="00b0f0"/>
                </a:solidFill>
                <a:latin typeface="Calibri Light"/>
              </a:rPr>
              <a:t>Memorias de una sirena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9280" y="155736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Calibri"/>
              </a:rPr>
              <a:t>Sabina es una linda y curiosa sirena que, al nacer, devuelve las esperanzas perdidas a las sirenas más longevas con su facultad de encantar a los marinos, desorientándos y provocando sus naufrag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alibri"/>
              </a:rPr>
              <a:t>Revisa el lin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youtube.com/watch?v=9b0lPaDmU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n 2" descr=""/>
          <p:cNvPicPr/>
          <p:nvPr/>
        </p:nvPicPr>
        <p:blipFill>
          <a:blip r:embed="rId2"/>
          <a:stretch/>
        </p:blipFill>
        <p:spPr>
          <a:xfrm>
            <a:off x="6372360" y="3441600"/>
            <a:ext cx="2455560" cy="3141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Resultado de imagen para dedo señalando arriba"/>
          <p:cNvPicPr/>
          <p:nvPr/>
        </p:nvPicPr>
        <p:blipFill>
          <a:blip r:embed="rId3"/>
          <a:stretch/>
        </p:blipFill>
        <p:spPr>
          <a:xfrm>
            <a:off x="395280" y="5013360"/>
            <a:ext cx="633600" cy="888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Resultado de imagen para dedo señalando arriba"/>
          <p:cNvPicPr/>
          <p:nvPr/>
        </p:nvPicPr>
        <p:blipFill>
          <a:blip r:embed="rId4"/>
          <a:stretch/>
        </p:blipFill>
        <p:spPr>
          <a:xfrm>
            <a:off x="1476360" y="5013360"/>
            <a:ext cx="631800" cy="888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Resultado de imagen para dedo señalando arriba"/>
          <p:cNvPicPr/>
          <p:nvPr/>
        </p:nvPicPr>
        <p:blipFill>
          <a:blip r:embed="rId5"/>
          <a:stretch/>
        </p:blipFill>
        <p:spPr>
          <a:xfrm>
            <a:off x="2484360" y="5013360"/>
            <a:ext cx="631800" cy="88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Resultado de imagen para dedo señalando arriba"/>
          <p:cNvPicPr/>
          <p:nvPr/>
        </p:nvPicPr>
        <p:blipFill>
          <a:blip r:embed="rId6"/>
          <a:stretch/>
        </p:blipFill>
        <p:spPr>
          <a:xfrm>
            <a:off x="3522600" y="5013360"/>
            <a:ext cx="633600" cy="888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Resultado de imagen para dedo señalando arriba"/>
          <p:cNvPicPr/>
          <p:nvPr/>
        </p:nvPicPr>
        <p:blipFill>
          <a:blip r:embed="rId7"/>
          <a:stretch/>
        </p:blipFill>
        <p:spPr>
          <a:xfrm>
            <a:off x="4595760" y="5013360"/>
            <a:ext cx="6336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7T16:01:09Z</dcterms:created>
  <dc:creator>MORON</dc:creator>
  <dc:description/>
  <cp:keywords/>
  <dc:language>en-US</dc:language>
  <cp:lastModifiedBy>constanza soto cabrera</cp:lastModifiedBy>
  <dcterms:modified xsi:type="dcterms:W3CDTF">2020-03-17T23:11:15Z</dcterms:modified>
  <cp:revision>75</cp:revision>
  <dc:subject/>
  <dc:title>EL SISTEMA SOLA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803082</vt:lpwstr>
  </property>
</Properties>
</file>